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86A7-7415-4FE6-B50D-C46471B4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EB3-74EA-4A2B-95F2-986AC41F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4D6-0C36-4991-AF4E-647E4B66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398-B503-49CA-A595-143A07F0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8BDE-99C7-42F4-A297-388301E0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963A-A978-4F0B-BB4C-CD4AF2BE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B280-8D3F-493E-BE2D-9863204D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1604-8E26-4453-929F-B5D62D5B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C667-E851-4BD9-9E4C-7BE5355E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8F2E-0B70-442D-AE0E-C1F18846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FE33-8871-4AF0-B5CF-8A354AA9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8E83-9D7F-41C3-B9C2-37846A8F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2EDA-8986-426F-A9A9-01EAE4B3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C734-4C93-42D9-9167-478EEDCE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21BC-5FEF-4174-A0A8-BB211B19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2880-446B-491E-BDA0-BDBA962A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26CA-9B8D-4D68-BC8E-B21457F6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0AE66-8D8F-4D7C-9767-0ACD6796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F066-F802-431F-9F78-310029ED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6FAA2-EB76-4D3D-BDE4-A05351FA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25E68-D109-4C8A-B1E6-CDC5B1C8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35AB7-62A0-4EAD-9F26-A80738C0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84D-6FB6-437E-943E-D9FEFA7B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76062-33EB-4560-9424-D4348529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164D4-2C5A-407D-A5EC-8F2F7944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F1968-2F01-4E6A-806F-17BE87D2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E76DE-FE81-4C85-997D-ACA83C13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194A3-97B1-4F23-96BB-3A0C97BF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39762-59C7-4730-85E4-D3E61EEF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92BED-9B38-4D7D-8E64-77EB6FC5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D763F-99BC-4DD3-8CA3-D37900B7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AC73C-4692-4850-844F-8A8E55E9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51A80-D352-46CA-BC3E-F9F37395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F830-3CAE-4941-8A8F-AEFA01CE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F6DB3-5F80-421B-98F4-99E22C97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C547B-496C-4078-85E9-AA96669E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9C495-87B0-4E71-B1A7-9AC5F3A1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509A3-15FF-4D42-9401-61E11A2D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BDF2D-1A8A-4CFF-AE87-0D5A9EBF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BCA27-5939-4516-A0CD-36F9431D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51E13-83CA-486A-955E-78B7D787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09B25-BD43-4E17-9EA4-1545F753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01219-9C64-42E7-B8BE-C4E8EA4A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E8AE8-B41F-4A96-9100-3A376CF8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2B3-6F7F-43AF-9E82-8C83591D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B15CB-DA6C-4908-8C66-C34AF56B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672F6-70D1-4106-BA6F-B6C2C441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2D8BB-0551-4DF4-A112-0051BE0F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7CC33-B227-4084-86BF-76BF56AF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DB442-979F-4485-89DD-802C7F86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510A5-1EC0-4164-A10E-734A494F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AB2CB-A7F7-4417-B6BB-842596C2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4E9C6-BF14-49F3-8981-E8BBEE0D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676AB-5CB7-4B4B-A31D-F024E43F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9F42E-C36C-4B4A-A7C3-54BAB313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1DB-8A21-4660-811F-F1E46E5E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EE564-19EC-49FF-81E0-22CCE8CE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57222-CB1D-4408-982D-C13E6299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84BB7-21CB-45DD-8C30-BE748B22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98E37-BC74-4F8C-ABB4-7B5553F8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D6547-E500-474F-A6A1-6244A3A2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80927-F18E-47BE-8B85-989EFEEC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91A25-0D71-42F7-8C37-D3F7ACC9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63BAB-D06D-4EFA-98B3-4AE8D8BE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6C586-B70E-4A0B-9E2F-0665CDE5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20C07-C9E6-4763-B1CE-CDCAA67C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437-E389-4D20-A99E-C5F1CF87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2CC2E-EF87-4E76-8EDE-7205973A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052FE-6AA4-4CD2-BB56-50420677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6A530-C929-4D95-8442-F1527A3C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9B1C5-B966-467F-9F47-53CC5C9A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CBB97-7201-4B6B-91A4-D8614911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32810-9D18-4FFC-B2F6-D91360E5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E5AA1-211D-45A5-8060-046EC616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B3539-5828-4948-87D4-B541B59B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B68EA-0C09-46F5-B297-098A82AD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44009-7C56-4DC9-B6AD-AE9C9014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8A0-4DE7-4B2A-9614-1CBF76D8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D9663-51DB-4811-8566-6028357A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8C570-D44E-4B6C-94AE-17A5578C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E50FD-2563-48E1-BBAB-E871DB14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80CFF-248E-4927-9D4A-7789345A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D4B62-2F05-4D4C-B8BB-CD3EA8CF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6D9DF-0615-4DEE-B84C-77C643DF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02266-1AA1-451F-9EAD-9C3D8769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A1435-E46B-4E92-9891-33F103D3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C67FC-9856-4952-8682-4F8E8D36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975C0-BC93-4E67-AAD6-07C75367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868-2665-4443-B06D-E6A2EE35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D5D78-5A9D-4DEA-9E90-3CAEBDB0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B4737-7A52-4589-9030-2CF05E88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3CED3-E840-43CD-AA3F-74459B78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B99AA-B38A-4064-BF39-5789334C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CEEFA-4904-458C-814C-00874831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45AA6-5AF1-4469-80BA-04053537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D28B1-1DA9-4FAD-9C92-CB0ACD14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EA4E-3F36-45D4-8A66-28B8CAA82A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8D9F-D217-49D7-BB60-AD695A37DA1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36CE-C858-4C33-B1B3-6F0B582503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A663-79E6-4AFD-ACDE-8D385C41F1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121D-F1D2-4C44-94EC-991DBBFC57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86E5-DDC5-4F6C-BD64-7B86842365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D9D5-82A9-4C89-B464-40DE5FD4BC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0470-9CBB-4E86-8461-CE1B4E4B2D4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9.png"/><Relationship Id="rId4" Type="http://schemas.openxmlformats.org/officeDocument/2006/relationships/slide" Target="slide3.xml"/><Relationship Id="rId5" Type="http://schemas.openxmlformats.org/officeDocument/2006/relationships/image" Target="../media/image10.png"/><Relationship Id="rId6" Type="http://schemas.openxmlformats.org/officeDocument/2006/relationships/slide" Target="slide5.xml"/><Relationship Id="rId7" Type="http://schemas.openxmlformats.org/officeDocument/2006/relationships/image" Target="../media/image11.png"/><Relationship Id="rId8" Type="http://schemas.openxmlformats.org/officeDocument/2006/relationships/slide" Target="slide8.xml"/><Relationship Id="rId9" Type="http://schemas.openxmlformats.org/officeDocument/2006/relationships/image" Target="../media/image12.png"/><Relationship Id="rId10" Type="http://schemas.openxmlformats.org/officeDocument/2006/relationships/slide" Target="slide10.xml"/><Relationship Id="rId11" Type="http://schemas.openxmlformats.org/officeDocument/2006/relationships/image" Target="../media/image13.png"/><Relationship Id="rId12" Type="http://schemas.openxmlformats.org/officeDocument/2006/relationships/slide" Target="slide12.xml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4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" Target="slide2.xm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" Target="slide2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6.xml"/><Relationship Id="rId3" Type="http://schemas.openxmlformats.org/officeDocument/2006/relationships/image" Target="../media/image16.png"/><Relationship Id="rId4" Type="http://schemas.openxmlformats.org/officeDocument/2006/relationships/image" Target="../media/image20.png"/><Relationship Id="rId5" Type="http://schemas.openxmlformats.org/officeDocument/2006/relationships/slide" Target="slide2.xm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76440" y="828720"/>
            <a:ext cx="7785000" cy="1847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2852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Lucida Sans Unicode"/>
              </a:rPr>
              <a:t>Системы счисления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 перевода из десятеричной системы счисления в восьмеричную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делить число на 8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айти остаток от деления целой части чис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писать все остатки от деления в обратном порядк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Users\kimvv\Desktop\button-1640.png"/>
          <p:cNvPicPr/>
          <p:nvPr/>
        </p:nvPicPr>
        <p:blipFill>
          <a:blip r:embed="rId3"/>
          <a:stretch/>
        </p:blipFill>
        <p:spPr>
          <a:xfrm>
            <a:off x="6227640" y="579132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68000" y="1481040"/>
            <a:ext cx="8218440" cy="13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543 в восьмеричную систему счисл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38600" indent="-9684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543 в восьмеричной системе равняется 103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1211400" y="2637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4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26" name="Группа 10"/>
          <p:cNvGrpSpPr/>
          <p:nvPr/>
        </p:nvGrpSpPr>
        <p:grpSpPr>
          <a:xfrm>
            <a:off x="1812960" y="2728800"/>
            <a:ext cx="503280" cy="433440"/>
            <a:chOff x="1812960" y="2728800"/>
            <a:chExt cx="503280" cy="433440"/>
          </a:xfrm>
        </p:grpSpPr>
        <p:sp>
          <p:nvSpPr>
            <p:cNvPr id="427" name="Прямая соединительная линия 6"/>
            <p:cNvSpPr/>
            <p:nvPr/>
          </p:nvSpPr>
          <p:spPr>
            <a:xfrm>
              <a:off x="1812960" y="272880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8" name="Прямая соединительная линия 7"/>
            <p:cNvSpPr/>
            <p:nvPr/>
          </p:nvSpPr>
          <p:spPr>
            <a:xfrm flipH="1">
              <a:off x="1812960" y="29462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29" name="TextBox 11"/>
          <p:cNvSpPr/>
          <p:nvPr/>
        </p:nvSpPr>
        <p:spPr>
          <a:xfrm>
            <a:off x="1845000" y="2622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TextBox 12"/>
          <p:cNvSpPr/>
          <p:nvPr/>
        </p:nvSpPr>
        <p:spPr>
          <a:xfrm>
            <a:off x="1854720" y="29527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TextBox 13"/>
          <p:cNvSpPr/>
          <p:nvPr/>
        </p:nvSpPr>
        <p:spPr>
          <a:xfrm>
            <a:off x="1230480" y="29304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3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Прямая соединительная линия 15"/>
          <p:cNvSpPr/>
          <p:nvPr/>
        </p:nvSpPr>
        <p:spPr>
          <a:xfrm>
            <a:off x="1258920" y="32702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TextBox 16"/>
          <p:cNvSpPr/>
          <p:nvPr/>
        </p:nvSpPr>
        <p:spPr>
          <a:xfrm>
            <a:off x="1490040" y="3309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34" name="Группа 17"/>
          <p:cNvGrpSpPr/>
          <p:nvPr/>
        </p:nvGrpSpPr>
        <p:grpSpPr>
          <a:xfrm>
            <a:off x="2340000" y="2982960"/>
            <a:ext cx="503280" cy="431640"/>
            <a:chOff x="2340000" y="2982960"/>
            <a:chExt cx="503280" cy="431640"/>
          </a:xfrm>
        </p:grpSpPr>
        <p:sp>
          <p:nvSpPr>
            <p:cNvPr id="435" name="Прямая соединительная линия 18"/>
            <p:cNvSpPr/>
            <p:nvPr/>
          </p:nvSpPr>
          <p:spPr>
            <a:xfrm>
              <a:off x="2340000" y="29829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6" name="Прямая соединительная линия 19"/>
            <p:cNvSpPr/>
            <p:nvPr/>
          </p:nvSpPr>
          <p:spPr>
            <a:xfrm flipH="1">
              <a:off x="2340000" y="31986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37" name="TextBox 20"/>
          <p:cNvSpPr/>
          <p:nvPr/>
        </p:nvSpPr>
        <p:spPr>
          <a:xfrm>
            <a:off x="2364120" y="290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TextBox 21"/>
          <p:cNvSpPr/>
          <p:nvPr/>
        </p:nvSpPr>
        <p:spPr>
          <a:xfrm>
            <a:off x="2379240" y="3189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Box 22"/>
          <p:cNvSpPr/>
          <p:nvPr/>
        </p:nvSpPr>
        <p:spPr>
          <a:xfrm>
            <a:off x="1839960" y="32288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Прямая соединительная линия 23"/>
          <p:cNvSpPr/>
          <p:nvPr/>
        </p:nvSpPr>
        <p:spPr>
          <a:xfrm>
            <a:off x="1816200" y="35305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TextBox 24"/>
          <p:cNvSpPr/>
          <p:nvPr/>
        </p:nvSpPr>
        <p:spPr>
          <a:xfrm>
            <a:off x="1999800" y="3559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42" name="Группа 25"/>
          <p:cNvGrpSpPr/>
          <p:nvPr/>
        </p:nvGrpSpPr>
        <p:grpSpPr>
          <a:xfrm>
            <a:off x="2843280" y="3198960"/>
            <a:ext cx="504720" cy="431640"/>
            <a:chOff x="2843280" y="3198960"/>
            <a:chExt cx="504720" cy="431640"/>
          </a:xfrm>
        </p:grpSpPr>
        <p:sp>
          <p:nvSpPr>
            <p:cNvPr id="443" name="Прямая соединительная линия 26"/>
            <p:cNvSpPr/>
            <p:nvPr/>
          </p:nvSpPr>
          <p:spPr>
            <a:xfrm>
              <a:off x="2843280" y="31989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4" name="Прямая соединительная линия 27"/>
            <p:cNvSpPr/>
            <p:nvPr/>
          </p:nvSpPr>
          <p:spPr>
            <a:xfrm flipH="1">
              <a:off x="2843280" y="34146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45" name="TextBox 28"/>
          <p:cNvSpPr/>
          <p:nvPr/>
        </p:nvSpPr>
        <p:spPr>
          <a:xfrm>
            <a:off x="2887200" y="314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TextBox 32"/>
          <p:cNvSpPr/>
          <p:nvPr/>
        </p:nvSpPr>
        <p:spPr>
          <a:xfrm>
            <a:off x="2925360" y="348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TextBox 33"/>
          <p:cNvSpPr/>
          <p:nvPr/>
        </p:nvSpPr>
        <p:spPr>
          <a:xfrm>
            <a:off x="2375280" y="3409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Прямая соединительная линия 34"/>
          <p:cNvSpPr/>
          <p:nvPr/>
        </p:nvSpPr>
        <p:spPr>
          <a:xfrm>
            <a:off x="2340000" y="37209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TextBox 35"/>
          <p:cNvSpPr/>
          <p:nvPr/>
        </p:nvSpPr>
        <p:spPr>
          <a:xfrm>
            <a:off x="2493360" y="3774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Прямая соединительная линия 37"/>
          <p:cNvSpPr/>
          <p:nvPr/>
        </p:nvSpPr>
        <p:spPr>
          <a:xfrm flipH="1">
            <a:off x="2843280" y="3703680"/>
            <a:ext cx="720720" cy="5745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51" name="Прямая со стрелкой 39"/>
          <p:cNvCxnSpPr/>
          <p:nvPr/>
        </p:nvCxnSpPr>
        <p:spPr>
          <a:xfrm flipH="1" flipV="1">
            <a:off x="1042200" y="3413880"/>
            <a:ext cx="1801080" cy="864360"/>
          </a:xfrm>
          <a:prstGeom prst="straightConnector1">
            <a:avLst/>
          </a:prstGeom>
          <a:ln w="19080">
            <a:solidFill>
              <a:srgbClr val="da1f28"/>
            </a:solidFill>
            <a:miter/>
            <a:tailEnd len="med" type="arrow" w="med"/>
          </a:ln>
        </p:spPr>
      </p:cxnSp>
      <p:pic>
        <p:nvPicPr>
          <p:cNvPr id="452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 перевода из десятеричной системы счисления в шестнадцатеричную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делить число на 16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айти остаток от деления целой части чис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писать все остатки от деления в обратном порядк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C:\Users\kimvv\Desktop\button-1640.png"/>
          <p:cNvPicPr/>
          <p:nvPr/>
        </p:nvPicPr>
        <p:blipFill>
          <a:blip r:embed="rId3"/>
          <a:stretch/>
        </p:blipFill>
        <p:spPr>
          <a:xfrm>
            <a:off x="6300720" y="578016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148104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287 в шестнадцатеричную систему счисл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287 в шестнадцатеричной системе счисления равняется 50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71360" indent="-1198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3"/>
          <p:cNvSpPr/>
          <p:nvPr/>
        </p:nvSpPr>
        <p:spPr>
          <a:xfrm>
            <a:off x="1074600" y="2708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28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0" name="Группа 4"/>
          <p:cNvGrpSpPr/>
          <p:nvPr/>
        </p:nvGrpSpPr>
        <p:grpSpPr>
          <a:xfrm>
            <a:off x="1812960" y="2816280"/>
            <a:ext cx="503280" cy="431640"/>
            <a:chOff x="1812960" y="2816280"/>
            <a:chExt cx="503280" cy="431640"/>
          </a:xfrm>
        </p:grpSpPr>
        <p:sp>
          <p:nvSpPr>
            <p:cNvPr id="461" name="Прямая соединительная линия 5"/>
            <p:cNvSpPr/>
            <p:nvPr/>
          </p:nvSpPr>
          <p:spPr>
            <a:xfrm>
              <a:off x="1812960" y="2816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2" name="Прямая соединительная линия 6"/>
            <p:cNvSpPr/>
            <p:nvPr/>
          </p:nvSpPr>
          <p:spPr>
            <a:xfrm flipH="1">
              <a:off x="1812960" y="30319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63" name="TextBox 7"/>
          <p:cNvSpPr/>
          <p:nvPr/>
        </p:nvSpPr>
        <p:spPr>
          <a:xfrm>
            <a:off x="1851840" y="2708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TextBox 8"/>
          <p:cNvSpPr/>
          <p:nvPr/>
        </p:nvSpPr>
        <p:spPr>
          <a:xfrm>
            <a:off x="1854720" y="3040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TextBox 9"/>
          <p:cNvSpPr/>
          <p:nvPr/>
        </p:nvSpPr>
        <p:spPr>
          <a:xfrm>
            <a:off x="1077840" y="2997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28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Прямая соединительная линия 10"/>
          <p:cNvSpPr/>
          <p:nvPr/>
        </p:nvSpPr>
        <p:spPr>
          <a:xfrm>
            <a:off x="125892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TextBox 11"/>
          <p:cNvSpPr/>
          <p:nvPr/>
        </p:nvSpPr>
        <p:spPr>
          <a:xfrm>
            <a:off x="1490040" y="3397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8" name="Группа 12"/>
          <p:cNvGrpSpPr/>
          <p:nvPr/>
        </p:nvGrpSpPr>
        <p:grpSpPr>
          <a:xfrm>
            <a:off x="2340000" y="3068640"/>
            <a:ext cx="503280" cy="431640"/>
            <a:chOff x="2340000" y="3068640"/>
            <a:chExt cx="503280" cy="431640"/>
          </a:xfrm>
        </p:grpSpPr>
        <p:sp>
          <p:nvSpPr>
            <p:cNvPr id="469" name="Прямая соединительная линия 13"/>
            <p:cNvSpPr/>
            <p:nvPr/>
          </p:nvSpPr>
          <p:spPr>
            <a:xfrm>
              <a:off x="2340000" y="30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70" name="Прямая соединительная линия 14"/>
            <p:cNvSpPr/>
            <p:nvPr/>
          </p:nvSpPr>
          <p:spPr>
            <a:xfrm flipH="1">
              <a:off x="2340000" y="328428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71" name="TextBox 15"/>
          <p:cNvSpPr/>
          <p:nvPr/>
        </p:nvSpPr>
        <p:spPr>
          <a:xfrm>
            <a:off x="2371680" y="29941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TextBox 16"/>
          <p:cNvSpPr/>
          <p:nvPr/>
        </p:nvSpPr>
        <p:spPr>
          <a:xfrm>
            <a:off x="2379240" y="3274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TextBox 17"/>
          <p:cNvSpPr/>
          <p:nvPr/>
        </p:nvSpPr>
        <p:spPr>
          <a:xfrm>
            <a:off x="1839960" y="3314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Прямая соединительная линия 18"/>
          <p:cNvSpPr/>
          <p:nvPr/>
        </p:nvSpPr>
        <p:spPr>
          <a:xfrm>
            <a:off x="1816200" y="36162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TextBox 19"/>
          <p:cNvSpPr/>
          <p:nvPr/>
        </p:nvSpPr>
        <p:spPr>
          <a:xfrm>
            <a:off x="199980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Прямая соединительная линия 28"/>
          <p:cNvSpPr/>
          <p:nvPr/>
        </p:nvSpPr>
        <p:spPr>
          <a:xfrm flipH="1">
            <a:off x="2268360" y="3500280"/>
            <a:ext cx="71928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77" name="Прямая со стрелкой 29"/>
          <p:cNvCxnSpPr/>
          <p:nvPr/>
        </p:nvCxnSpPr>
        <p:spPr>
          <a:xfrm flipH="1" flipV="1">
            <a:off x="1042560" y="3499560"/>
            <a:ext cx="1226160" cy="577080"/>
          </a:xfrm>
          <a:prstGeom prst="straightConnector1">
            <a:avLst/>
          </a:prstGeom>
          <a:ln w="19080">
            <a:solidFill>
              <a:srgbClr val="da1f28"/>
            </a:solidFill>
            <a:miter/>
            <a:tailEnd len="med" type="arrow" w="med"/>
          </a:ln>
        </p:spPr>
      </p:cxnSp>
      <p:pic>
        <p:nvPicPr>
          <p:cNvPr id="478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8064360" y="5784840"/>
            <a:ext cx="1079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C:\Users\kimvv\Desktop\button-926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708360" y="1989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Users\kimvv\Desktop\button-7442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116000" y="1989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C:\Users\kimvv\Desktop\button-1514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00720" y="1989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C:\Users\kimvv\Desktop\button-5312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116000" y="3645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C:\Users\kimvv\Desktop\button-4783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08360" y="3645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C:\Users\kimvv\Desktop\button-4214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300720" y="364500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перевода целого двоичного числа в восьмеричное его нужно разбить на группы по три цифры, справа налево, а затем преобразовать каждую группу в восьмеричную цифру. Если в последней, левой, группе окажется меньше трех цифр, то необходимо ее дополнить слева нуля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kimvv\Desktop\button-1640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48000" y="465300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C:\Users\kimvv\Desktop\button-7866.png"/>
          <p:cNvPicPr/>
          <p:nvPr/>
        </p:nvPicPr>
        <p:blipFill>
          <a:blip r:embed="rId4"/>
          <a:stretch/>
        </p:blipFill>
        <p:spPr>
          <a:xfrm>
            <a:off x="5508720" y="4653000"/>
            <a:ext cx="1676160" cy="952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C:\Users\kimvv\Desktop\505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67640" y="4581360"/>
            <a:ext cx="1081080" cy="107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0011010 из двоичной в восьмеричную систем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. Разбиваем число на группы по три цифры начиная справа: 10 011 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2. Если первая группа состоит менее чем из трех цифр, то добавляем нули: </a:t>
            </a: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0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0 011 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3. По таблице триад находим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 algn="just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010 = 2, 011 = 3, 010 = 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4. Следовательно, 10011010 в восьмеричной системе равно 23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ая соединительная линия 4"/>
          <p:cNvSpPr/>
          <p:nvPr/>
        </p:nvSpPr>
        <p:spPr>
          <a:xfrm>
            <a:off x="6300720" y="270828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Прямая соединительная линия 5"/>
          <p:cNvSpPr/>
          <p:nvPr/>
        </p:nvSpPr>
        <p:spPr>
          <a:xfrm>
            <a:off x="5554800" y="270828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Прямая соединительная линия 6"/>
          <p:cNvSpPr/>
          <p:nvPr/>
        </p:nvSpPr>
        <p:spPr>
          <a:xfrm>
            <a:off x="7885080" y="357336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Прямая соединительная линия 7"/>
          <p:cNvSpPr/>
          <p:nvPr/>
        </p:nvSpPr>
        <p:spPr>
          <a:xfrm>
            <a:off x="7139160" y="3573360"/>
            <a:ext cx="0" cy="57636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Picture 4" descr="C:\Users\kimvv\Desktop\button-7866.png"/>
          <p:cNvPicPr/>
          <p:nvPr/>
        </p:nvPicPr>
        <p:blipFill>
          <a:blip r:embed="rId2"/>
          <a:stretch/>
        </p:blipFill>
        <p:spPr>
          <a:xfrm>
            <a:off x="5651640" y="5732640"/>
            <a:ext cx="1676160" cy="952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C:\Users\kimvv\Desktop\505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5661000"/>
            <a:ext cx="10792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перевода целого двоичного числа в шестнадцатеричное его нужно разбить на группы по четыре цифры (тетрады), начиная справа, и, если в последней левой группе окажется меньше четырех цифр, дополнить ее слева нуля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360360" y="122400"/>
            <a:ext cx="8418600" cy="1304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Users\kimvv\Desktop\button-1640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48000" y="4365720"/>
            <a:ext cx="1676520" cy="952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C:\Users\kimvv\Desktop\button-3062.png"/>
          <p:cNvPicPr/>
          <p:nvPr/>
        </p:nvPicPr>
        <p:blipFill>
          <a:blip r:embed="rId4"/>
          <a:stretch/>
        </p:blipFill>
        <p:spPr>
          <a:xfrm>
            <a:off x="5508720" y="4365720"/>
            <a:ext cx="1676160" cy="952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C:\Users\kimvv\Desktop\505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67640" y="4292640"/>
            <a:ext cx="10810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101011010 из двоичной в шестнадцатеричную систем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. Разбиваем число на группы по четыре цифры начиная справа: 11 0101 1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2. Если первая группа состоит менее чем из трех цифр, то добавляем нули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00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1 0101 10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3. По таблице тетрад находим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 algn="just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0011 = 3, 0101 = 5, 1010 =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4. Следовательно, 1101011010 в Шестнадцатеричной системе равно 35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371520" y="-36360"/>
            <a:ext cx="8418600" cy="130464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ая соединительная линия 3"/>
          <p:cNvSpPr/>
          <p:nvPr/>
        </p:nvSpPr>
        <p:spPr>
          <a:xfrm>
            <a:off x="6516720" y="2565360"/>
            <a:ext cx="0" cy="5032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Прямая соединительная линия 4"/>
          <p:cNvSpPr/>
          <p:nvPr/>
        </p:nvSpPr>
        <p:spPr>
          <a:xfrm>
            <a:off x="5580000" y="2565360"/>
            <a:ext cx="0" cy="5032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Прямая соединительная линия 7"/>
          <p:cNvSpPr/>
          <p:nvPr/>
        </p:nvSpPr>
        <p:spPr>
          <a:xfrm>
            <a:off x="2843280" y="3860640"/>
            <a:ext cx="0" cy="5050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Прямая соединительная линия 8"/>
          <p:cNvSpPr/>
          <p:nvPr/>
        </p:nvSpPr>
        <p:spPr>
          <a:xfrm>
            <a:off x="1835280" y="3860640"/>
            <a:ext cx="0" cy="505080"/>
          </a:xfrm>
          <a:prstGeom prst="line">
            <a:avLst/>
          </a:prstGeom>
          <a:ln w="19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3" descr="C:\Users\kimvv\Desktop\button-3062.png"/>
          <p:cNvPicPr/>
          <p:nvPr/>
        </p:nvPicPr>
        <p:blipFill>
          <a:blip r:embed="rId2"/>
          <a:stretch/>
        </p:blipFill>
        <p:spPr>
          <a:xfrm>
            <a:off x="6453360" y="6006960"/>
            <a:ext cx="1315800" cy="747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C:\Users\kimvv\Desktop\505.png"/>
          <p:cNvPicPr/>
          <p:nvPr/>
        </p:nvPicPr>
        <p:blipFill>
          <a:blip r:embed="rId3"/>
          <a:stretch/>
        </p:blipFill>
        <p:spPr>
          <a:xfrm>
            <a:off x="8101080" y="5932440"/>
            <a:ext cx="863640" cy="85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перевода в десятеричную систему счисления необходимо найти сумму произведений основания 2 на соответствующую степень разряд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имер: необходимо перевести число 110011 в десятеричную систему счисл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Users\Kim\Desktop\trancletedigits2.preview.png"/>
          <p:cNvPicPr/>
          <p:nvPr/>
        </p:nvPicPr>
        <p:blipFill>
          <a:blip r:embed="rId2"/>
          <a:srcRect l="1400" t="36693" r="2085" b="11829"/>
          <a:stretch/>
        </p:blipFill>
        <p:spPr>
          <a:xfrm>
            <a:off x="900000" y="4221000"/>
            <a:ext cx="7994880" cy="1440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C:\Users\kimvv\Desktop\505.png"/>
          <p:cNvPicPr/>
          <p:nvPr/>
        </p:nvPicPr>
        <p:blipFill>
          <a:blip r:embed="rId3"/>
          <a:stretch/>
        </p:blipFill>
        <p:spPr>
          <a:xfrm>
            <a:off x="7812000" y="5661000"/>
            <a:ext cx="10810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 перевода из десятеричной системы счисления в двоичную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делить число на 2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айти остаток от деления целой части чис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писать все остатки от деления в обратном порядк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C:\Users\kimvv\Desktop\505.png"/>
          <p:cNvPicPr/>
          <p:nvPr/>
        </p:nvPicPr>
        <p:blipFill>
          <a:blip r:embed="rId2"/>
          <a:stretch/>
        </p:blipFill>
        <p:spPr>
          <a:xfrm>
            <a:off x="7740720" y="5516640"/>
            <a:ext cx="1079280" cy="1073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Users\kimvv\Desktop\button-1640.png"/>
          <p:cNvPicPr/>
          <p:nvPr/>
        </p:nvPicPr>
        <p:blipFill>
          <a:blip r:embed="rId3"/>
          <a:stretch/>
        </p:blipFill>
        <p:spPr>
          <a:xfrm>
            <a:off x="5940360" y="5516640"/>
            <a:ext cx="16765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перевести число 136 в двоичную систему счисл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36 в двоичной системе равно 100010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grpSp>
        <p:nvGrpSpPr>
          <p:cNvPr id="415" name="Группа 11266"/>
          <p:cNvGrpSpPr/>
          <p:nvPr/>
        </p:nvGrpSpPr>
        <p:grpSpPr>
          <a:xfrm>
            <a:off x="1476360" y="2421000"/>
            <a:ext cx="4390920" cy="3095640"/>
            <a:chOff x="1476360" y="2421000"/>
            <a:chExt cx="4390920" cy="3095640"/>
          </a:xfrm>
        </p:grpSpPr>
        <p:pic>
          <p:nvPicPr>
            <p:cNvPr id="416" name="Picture 2" descr="39050_html_m14312ab5"/>
            <p:cNvPicPr/>
            <p:nvPr/>
          </p:nvPicPr>
          <p:blipFill>
            <a:blip r:embed="rId2"/>
            <a:srcRect l="25195" t="32003" r="8423" b="0"/>
            <a:stretch/>
          </p:blipFill>
          <p:spPr>
            <a:xfrm>
              <a:off x="1476360" y="2421000"/>
              <a:ext cx="4390920" cy="3095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417" name="Picture 2" descr="39050_html_m14312ab5"/>
            <p:cNvPicPr/>
            <p:nvPr/>
          </p:nvPicPr>
          <p:blipFill>
            <a:blip r:embed="rId3"/>
            <a:srcRect l="63537" t="32003" r="8423" b="48725"/>
            <a:stretch/>
          </p:blipFill>
          <p:spPr>
            <a:xfrm>
              <a:off x="1476360" y="4651200"/>
              <a:ext cx="1857240" cy="865440"/>
            </a:xfrm>
            <a:prstGeom prst="rect">
              <a:avLst/>
            </a:prstGeom>
            <a:ln w="9360">
              <a:solidFill>
                <a:srgbClr val="ffffff"/>
              </a:solidFill>
              <a:round/>
            </a:ln>
          </p:spPr>
        </p:pic>
      </p:grpSp>
      <p:pic>
        <p:nvPicPr>
          <p:cNvPr id="418" name="Picture 5" descr="C:\Users\kimvv\Desktop\505.png"/>
          <p:cNvPicPr/>
          <p:nvPr/>
        </p:nvPicPr>
        <p:blipFill>
          <a:blip r:embed="rId4"/>
          <a:stretch/>
        </p:blipFill>
        <p:spPr>
          <a:xfrm>
            <a:off x="7885080" y="5784840"/>
            <a:ext cx="10796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19:01:08Z</dcterms:created>
  <dc:creator>Ким</dc:creator>
  <dc:description/>
  <dc:language>en-US</dc:language>
  <cp:lastModifiedBy>kimvv</cp:lastModifiedBy>
  <dcterms:modified xsi:type="dcterms:W3CDTF">2019-01-24T05:05:37Z</dcterms:modified>
  <cp:revision>90</cp:revision>
  <dc:subject/>
  <dc:title>Презентация PowerPoint</dc:title>
</cp:coreProperties>
</file>